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975-A629-4199-8AED-E28E049B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05A-4A99-4A8A-AE78-B862325C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7CA-3A15-4156-8D77-8D427FCE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BD3-F76B-4AAB-94A0-079854F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0CB-1454-4288-9752-83C489D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7FD-A581-423F-BCEA-B21A0ED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D80-E976-41C2-9ECD-D541D90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720-BAB9-45A2-8D1F-9D03E97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956-C969-4526-B3F3-23DB4B05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C48-E410-4757-8A39-F321674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28F-B333-4C9D-848B-B6D8DA06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AE7-39F7-403F-A846-5474C24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1E94-C9FF-4E10-85EC-B72853494C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B3C-561D-4D6A-8473-15FE3A66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50920" y="14292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Місце та роль постачальників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за нерегульованим тарифом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у впровадженні Концепції Оптового ринку електроенергі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145320" y="3071880"/>
            <a:ext cx="57754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ех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Генеральний 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ТОВ Науково-технічни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Енергетичні технології”, (м. Харкі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рофесор Національного технічного університ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Харківський політехнічний інститут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академік Академіі наук вищої освіт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E84-A402-46DE-8A56-FB87DF62C1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85840" y="500040"/>
            <a:ext cx="857232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біговий капітал ПНТ значно менший ніж у ПРТ, що  практично не дає їм жодного шансу на успіх в умовах біржової  торгівлі поруч з конкур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ідсутність інформації щодо моніторингу та прозорості правильного встановлення ціни на діяльність у сфері постачання та розподілу електроенергії, прозорості ціни та умов для доступу до мереж, які мають надаватися будь-яким дистриб’юторам будь-якого постачальника за відсутності дискримін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гідно Концепції ринковий моніторинг ринку постачання є відповідальністю НКРЕ, тому важливо, щоб усі його елементи були законодавчо зафіксован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снує загроза монополізації ринку фінансово-промисловими групами, що можуть скуповувати ф’ючерсні контракти та спекулювати на вторинному ринку електроенерг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икликає занепокоєння відсутність прозорого механізму допуску до нового ринку постачальників за нерегульованим тарифом, а саме – механізм та умови переходу у кваліфіковані постачаль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794-E052-4377-B529-98AD551F3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600" y="300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формування енергетичного ринку зачіпає інтереси всіх без виключення господарських структур, країн-імпортерів української енергії і населення України, тому всі наслідки впровадження Концепції мають бути смодульовані, ретельно прораховані та обгрунтовані, аби уникнути помилок, характерних для економіки Украіни кінця ХХ та початку Х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сторіччя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16B-C77C-4A5F-B916-D973B6F101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09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Впровадження Концепції Оптового ринку електроенергії здійснюється як окрема державна програма, метою якої є створення ринку пропозиції та попиту на електричну енергію. </a:t>
            </a:r>
            <a:br>
              <a:rPr sz="3400"/>
            </a:b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На цьому дуже важливому етапі формування передумов для забезпечення енергетичної незалежності </a:t>
            </a: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держава</a:t>
            </a:r>
            <a:r>
              <a:rPr b="1" i="1" lang="uk-UA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може розраховувати на  набутий досвід та певний потенціал постачальників за нерегульованим тарифом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C10-50D8-461D-BE7A-FF4F673599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провадження Концепції Оптового ринку електроенергії (ОРЕ) передбачає формування ринку двосторонніх договорів, що має певні відмінності від ситуації, яка існує на ОРЕ сьогодн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469-B35B-4E88-8A8B-4F487AD72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купка електричної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нергії на оптовому рин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Picture1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47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BDF-3466-4387-88CC-319C7126E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285840" y="214200"/>
            <a:ext cx="8567640" cy="633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6F6-7046-4F21-99DA-7AFE3B55B3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ця в нових умовах потребу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формування у виробників, постачальників та споживачів нового мислення та усвідомлення самої суті змі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ійний моніторинг ринку електроенергії та конкурентного середови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е обґрунтування кожного к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тосування управлінського обліку та аналізу на всіх ета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ратегічний підхід до формування та обігу власного та позикового капіт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ієнтація в технологічних особливостях виробництва споживача та об’єктивна оцінка його можливостей гнучкості щодо зміни графіків навантаження електроенерг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тосування спеціальних комп’ютерних програм для забезпечення праці кваліфікованих постачаль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053-FE5C-40D9-8775-E63B50CCF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0"/>
            <a:ext cx="91440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До роботи в нових  умовах більш за все підготовлені постачальники  за нерегульованим тарифом (ПНТ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80% ПНТ працюють в умовах, певним образом наближених до ринку двосторонніх договорів більше 5 ро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ьогодні на ОРЕ працює понад 65 ПНТ у більшості областей України з загальною  чисельністю понад 500 працюючих  спеціаліст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итома вага  ПНТ в загальному обсязі електроенергії, купленої з ОРЕ,  становила у 2007 році 10,56%, що порівняно з 2006 роком більше на 18,5%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итома вага  ПРТ в загальному обсязі електроенергії, купленої з ОРЕ,  становила у 2007 році - 84,45%, що порівняно з 2006 роком більше на 2,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диаграмма"/>
          <p:cNvPicPr/>
          <p:nvPr/>
        </p:nvPicPr>
        <p:blipFill>
          <a:blip r:embed="rId1"/>
          <a:stretch/>
        </p:blipFill>
        <p:spPr>
          <a:xfrm>
            <a:off x="1071720" y="2857680"/>
            <a:ext cx="6715080" cy="2601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0" y="53578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а на ОРЕ здійснюється на основі двосторонніх договорів ПНТ із споживачами, які підписуються сторонами в конкурентному середовищі з урахуванням інтересів обох  сторін за умови отримання певного рівня прибут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буток отримується сторонами завдяки оптимізації графіків споживання електричної енергії споживачами та встановлення спеціальних узгоджених ц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A10-EA67-45C3-8F16-68ABE3C5B6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ажливою умовою функціонування Оптового ринку є наявність автоматизованої системи  комерційного обліку електроенергії (АСК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14200" y="1143000"/>
            <a:ext cx="878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будова АСКОЕ станом на 01.01.2008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Вироб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ОРЕ працювало 38 виробників, з яких лише 12 впровадили АСКОЕ, що становило 3% від загального обсягу електроенергії, проданої виробниками в 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2 виробника запланували впровадити АСКОЕ в 2008 році (89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остачальники за регульованим тарифом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ОРЕ працювало 35 ПРТ, з яких 4 впровадило АСКОЕ, обсяг купівлі електроенергії яких становить 12,5% від загального обсягу електроенергії, купленої ПРТ з О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4 ПРТ планують впровадити АСКОЕ в 2008 році, що становить 58,7 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 ПРТ планують  впровадити АСКОЕ в 2009 році — 22,8 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 ПРТ — 6 % - не визначились із строками впровадження АСК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остачальники  за нерегульованим тарифом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69% споживачів ПНТ впроваджено 136 АСКО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СКОЕ охоплено усі точки обліку ПНТ з обсягом вище 50 тис. кВт/год./місяц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сі АСКОЕ метрологічно атестовані – такі умови роботи ПНТ на ОРЕ на відміну від П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анали з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зку прозорі та забезпечують доступ усіх зацікавлених сторін до засобів облі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ПНТ мають атестовані АСКОЕ своїх підприємств, що у реальному часі дозволяє здійснювати управління  потужністю споживач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НТ працюють висококваліфіковані спеціально підготовлені кадр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63E-207E-4DFC-A6F0-B0EB03FC4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560" y="27856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Можна стверджувати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 Укра</a:t>
            </a: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їні  і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ну</a:t>
            </a: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є і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ститут постачальник</a:t>
            </a: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 електроенерг</a:t>
            </a: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ії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за нерегульованим  тариф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E20-09ED-4DBD-BE61-F75AC7B3A4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ові умови вимагають від ПНТ оволодіти всім механізмом сучасного ринку електроенергії, якому властиві суттєві ризики, що обумовлені  наступними факторам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14200" y="1285920"/>
            <a:ext cx="892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ільша  частина споживачів, що знаходяться на постачанні у ПНТ – це дрібні та середні споживачі, з обсягом споживання електроенергії від  5 тис. кВт.год/місяць до 150 тис. кВт.год, що працюють переважно з 8 до 17 години, і їхні потужності не є гнучкими. Доходність таких  споживачів сьогодні складає від - 3% до +(0,5-1,5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 нових умовах ПНТ зможе придбати постійну та змінну частину е/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график1.jpg"/>
          <p:cNvPicPr/>
          <p:nvPr/>
        </p:nvPicPr>
        <p:blipFill>
          <a:blip r:embed="rId1"/>
          <a:stretch/>
        </p:blipFill>
        <p:spPr>
          <a:xfrm>
            <a:off x="857160" y="3349800"/>
            <a:ext cx="7715520" cy="350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0B9-8BE2-4B9D-AB9C-FE543646D3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20:35:27Z</dcterms:created>
  <dc:creator>Марина</dc:creator>
  <dc:description/>
  <dc:language>en-US</dc:language>
  <cp:lastModifiedBy>Punina</cp:lastModifiedBy>
  <dcterms:modified xsi:type="dcterms:W3CDTF">2008-09-21T09:59:44Z</dcterms:modified>
  <cp:revision>38</cp:revision>
  <dc:subject/>
  <dc:title>Реформирование энергетического рынка Украины затрагивает интересы всех без  исключения хозяйственные структуры, стран-импортеров украинской энергии и население Украины, поэтому все последствия должны быть тщательно просчитаны и обоснованы. </dc:title>
</cp:coreProperties>
</file>